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957E-38BB-477B-8774-7357C639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08E94-B3CB-4ACB-AE89-7B290630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1EB0-3A55-4DCA-81D9-3C5FD911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DD4B-386B-4319-91CB-20A99AA0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4D2C7-71EC-4964-B3BC-FBE7BC5A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E2CF-6938-4937-AC51-77B086C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92194-060E-480C-BC20-A3A57F3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0F4B1-4E2F-44FE-8588-E427EB0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6DB4-45DA-4FB5-AF0F-F5C0D4CA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9DD9B-F162-43CF-A7A6-8A38A5F0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697B-5322-4EC6-9B5E-E58CBAC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EDBE-3373-4158-A428-1DF62F33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0EEEB-FA64-47FD-9650-D5E0127B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4B19-198B-40F6-A7D4-48464CD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0E47A-09F8-4026-BF20-BB2E717C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292E6-F7E4-4E1D-B7E3-1549392B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11BD4-028D-4995-9743-7EABB3F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A268E-1B15-4902-ABD4-25E8D5D1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986F8-DA58-4E17-92B3-2D9A5F8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67BD-79A8-4EE2-A75B-F5809DD8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B4919-3F69-4CD6-95CC-D95A811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486F9-7426-486E-B010-C704525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A20E6-86DA-4E53-A07D-2DCF95EE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9A1EB-6C9E-4276-A134-03F7C8E9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6600"/>
                </a:solidFill>
                <a:latin typeface="Times New Roman"/>
              </a:rPr>
              <a:t>Ryn, 2 –5 października 2007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A510-385A-4514-9E8A-9FCD25491F5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0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250560" y="5733720"/>
            <a:ext cx="8569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6600"/>
                </a:solidFill>
                <a:latin typeface="Times New Roman"/>
              </a:rPr>
              <a:t>Ryn, 2 -5 października 2007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AC0-A502-4C66-A8F2-3B1C4A4715DC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„</a:t>
            </a: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Trzymaj Formę!”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OGÓLNOPOLSKI   PROGRAM   EDUKACYJN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promujący zbilansowaną dietę i aktywność fizyczną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wśród młodzieży szkoln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Sekcja Profilaktyki Zdrowotnej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Powiatowa Stacja Sanitarno-Epidemiologiczna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w Toruniu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4" descr="Trzymaj forme"/>
          <p:cNvPicPr/>
          <p:nvPr/>
        </p:nvPicPr>
        <p:blipFill>
          <a:blip r:embed="rId1"/>
          <a:stretch/>
        </p:blipFill>
        <p:spPr>
          <a:xfrm>
            <a:off x="3506760" y="277920"/>
            <a:ext cx="2130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X. MATERIAŁY I POMOCE PROGRAMOWE c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internetowa interaktywna strona edukacyjna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(treści programowe, gry, na wirtualnych produktach informowanie o znakowaniu żywności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zalecenia dotyczące sprzedaży produktów spożywczych w obiektach szkolnych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1268280"/>
            <a:ext cx="23623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7040" y="1671480"/>
            <a:ext cx="8066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2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l-PL" sz="2600" spc="-1" strike="noStrike" u="sng">
                <a:solidFill>
                  <a:srgbClr val="ffffcc"/>
                </a:solidFill>
                <a:uFillTx/>
                <a:latin typeface="Verdana"/>
              </a:rPr>
              <a:t>Żywienie młodzieży – zbilansowana diet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Talerz zdrowia – bloki produktó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zkład posiłków w ciągu dnia i % dobowego zapotrzebowania na energię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Dzienne zalecenia żywieniowe dla młodzieży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la podstawowych składników odżywczych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Zasady zdrowego żywienia (10 zasad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Alternatywne sposoby żywienia na przykładzie diety wegetariańskiej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4" descr="logo-trzymaj formę"/>
          <p:cNvPicPr/>
          <p:nvPr/>
        </p:nvPicPr>
        <p:blipFill>
          <a:blip r:embed="rId1"/>
          <a:stretch/>
        </p:blipFill>
        <p:spPr>
          <a:xfrm>
            <a:off x="7093080" y="907920"/>
            <a:ext cx="16192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Verdana"/>
              </a:rPr>
              <a:t>Zaburzenia stanu zdrowia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otyłość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adwaga (BMI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iedobór masy ciał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anoreksja, bulimia – pomoc specjalis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ybrane elementy edukacji konsumenckiej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awa konsument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nakowanie etykiet z żywności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Picture 4" descr="logo-trzymaj formę"/>
          <p:cNvPicPr/>
          <p:nvPr/>
        </p:nvPicPr>
        <p:blipFill>
          <a:blip r:embed="rId1"/>
          <a:stretch/>
        </p:blipFill>
        <p:spPr>
          <a:xfrm>
            <a:off x="6588000" y="2492280"/>
            <a:ext cx="2286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Znaczenie aktywności fizycznej dla zdrowia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ożądana aktywność fizyczna dla dzieci i młodzieży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wydolności fizycznej (ćwiczenia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sprawności fizycznej (ćwiczenia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Przykłady z omówieniem metodycznym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rzuch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ioder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4" descr="logo-trzymaj formę"/>
          <p:cNvPicPr/>
          <p:nvPr/>
        </p:nvPicPr>
        <p:blipFill>
          <a:blip r:embed="rId1"/>
          <a:stretch/>
        </p:blipFill>
        <p:spPr>
          <a:xfrm>
            <a:off x="6804000" y="5373720"/>
            <a:ext cx="1908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 cd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sni grzbiet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klatki piersiowej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oddechowe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utrzymywania poprawnej postawy ciał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arsz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ciekawe przykłady lekcji WF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iśmiennictwo uzupełniające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4724280"/>
            <a:ext cx="2286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I. PODSUMOWANIE I OCENA REALIZACJI   PROGRAMU  (na poziomie szkolnym, powiatowym, wojewódzkim   i krajowym)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Od 11 edycji obowiązuje wyłącznie sprawozdawczość elektronicz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9" name="Picture 4" descr="logo-trzymaj formę"/>
          <p:cNvPicPr/>
          <p:nvPr/>
        </p:nvPicPr>
        <p:blipFill>
          <a:blip r:embed="rId1"/>
          <a:stretch/>
        </p:blipFill>
        <p:spPr>
          <a:xfrm>
            <a:off x="7236000" y="333360"/>
            <a:ext cx="1908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XI. PODSUMOWANIE I OCENA REALIZACJI PROGRAMU c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miany asortymentu produktów żywnościowych w sklepikach szkolnych, stołówkach, barach itp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Uzyskanych efektów w zakresie aktywności fizycznej uczniów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Wykonawcy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Dyrekcje i szkolni koordynatorz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Kierownicy stołówek szkolnych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Ajenci zbiorowego żywien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Rada Rodziców, Rada Szkoły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mitet Rodzicielsk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elęgniarki środowiska szkolnego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ładze samorządow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2" name="Picture 5" descr="logo-trzymaj formę"/>
          <p:cNvPicPr/>
          <p:nvPr/>
        </p:nvPicPr>
        <p:blipFill>
          <a:blip r:embed="rId1"/>
          <a:stretch/>
        </p:blipFill>
        <p:spPr>
          <a:xfrm>
            <a:off x="6300720" y="4869000"/>
            <a:ext cx="24703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rzymaj forme"/>
          <p:cNvPicPr/>
          <p:nvPr/>
        </p:nvPicPr>
        <p:blipFill>
          <a:blip r:embed="rId1"/>
          <a:stretch/>
        </p:blipFill>
        <p:spPr>
          <a:xfrm>
            <a:off x="179280" y="765000"/>
            <a:ext cx="2735280" cy="14623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3421440" y="523800"/>
            <a:ext cx="54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ogólnopolski program edukacyjny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promujący zbilansowaną dietę i aktywność fizyczną 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wśród młodzieży szkolne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00000" y="2106720"/>
            <a:ext cx="755964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Sekcja Profilaktyki Zdrowotne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Powiatowa Stacja Sanitarno-Epidemiologiczna </a:t>
            </a:r>
            <a:br>
              <a:rPr sz="2800"/>
            </a:b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 Toruni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684360" y="27082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EL GŁÓWN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Zwiększenie świadomości dotyczącej wpływu żywienia i aktywności fizycznej na zdrow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logo-trzymaj formę"/>
          <p:cNvPicPr/>
          <p:nvPr/>
        </p:nvPicPr>
        <p:blipFill>
          <a:blip r:embed="rId1"/>
          <a:stretch/>
        </p:blipFill>
        <p:spPr>
          <a:xfrm>
            <a:off x="5796000" y="836640"/>
            <a:ext cx="2514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I. CELE SZCZEGÓŁOW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Pogłębienie wiedzy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w zakresie znaczenia zbilansowanej diety oraz aktywności fizycznej dla organizmu człowiek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Kształtowanie zmiany postaw i zachowań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wiązanych z prawidłowym żywieniem, odpowiednią jakością zdrowotną żywności i aktywnością fizyczn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Dostarczenie wiedzy i umiejętności korzystania 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z informacji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amieszczonych na opakowaniach produktów spożywczyc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logo-trzymaj formę"/>
          <p:cNvPicPr/>
          <p:nvPr/>
        </p:nvPicPr>
        <p:blipFill>
          <a:blip r:embed="rId1"/>
          <a:stretch/>
        </p:blipFill>
        <p:spPr>
          <a:xfrm>
            <a:off x="7020000" y="981000"/>
            <a:ext cx="1781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16000" y="1989000"/>
            <a:ext cx="7272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II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ADRESACI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Uczniowie szkół podstawowych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(V-VIII) </a:t>
            </a: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 oraz ich rodzice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i opiekunow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V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UCZESTNIC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dyrekcje szkół, nauczyciele, społeczność        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szkoln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pielęgniarki środowiska szkolnego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władze wojewódzkie i lokalne oraz inni wg   możliwości i potrzeb środowiskowy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logo-trzymaj formę"/>
          <p:cNvPicPr/>
          <p:nvPr/>
        </p:nvPicPr>
        <p:blipFill>
          <a:blip r:embed="rId1"/>
          <a:stretch/>
        </p:blipFill>
        <p:spPr>
          <a:xfrm>
            <a:off x="7164360" y="1125360"/>
            <a:ext cx="1548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1557360"/>
            <a:ext cx="73454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. ORGANIZ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łówny Inspektorat Sanitarn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buClr>
                <a:srgbClr val="eaeaea"/>
              </a:buClr>
              <a:buSzPct val="70000"/>
              <a:buFont typeface="Verdana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warzyszenie „Polska Federacja Producentów    Żywności”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.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KOORDYN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wojewódzki - Wojewódzki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powiatowy - Powiatow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szkolny - dyrektorzy szkół i nauczycie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logo-trzymaj formę"/>
          <p:cNvPicPr/>
          <p:nvPr/>
        </p:nvPicPr>
        <p:blipFill>
          <a:blip r:embed="rId1"/>
          <a:stretch/>
        </p:blipFill>
        <p:spPr>
          <a:xfrm>
            <a:off x="6084720" y="5229360"/>
            <a:ext cx="22860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17" name="Object 6"/>
          <p:cNvGraphicFramePr/>
          <p:nvPr/>
        </p:nvGraphicFramePr>
        <p:xfrm>
          <a:off x="3997440" y="1773360"/>
          <a:ext cx="40352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1773360"/>
                    <a:ext cx="40352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7"/>
          <p:cNvSpPr/>
          <p:nvPr/>
        </p:nvSpPr>
        <p:spPr>
          <a:xfrm>
            <a:off x="971640" y="2060640"/>
            <a:ext cx="756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187280" y="206064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I. PARTNE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Edukacji Narodow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Żywności i Żywien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Sportu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Matki i Dziec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zkoła Główna Gospodarstwa Wiejskiego   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ademia Wychowania Fizyczneg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esięcznik „Lider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logo-trzymaj formę"/>
          <p:cNvPicPr/>
          <p:nvPr/>
        </p:nvPicPr>
        <p:blipFill>
          <a:blip r:embed="rId3"/>
          <a:stretch/>
        </p:blipFill>
        <p:spPr>
          <a:xfrm>
            <a:off x="6156360" y="5229360"/>
            <a:ext cx="2087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82692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X. MATERIAŁY I POMOCE  PROGRAMOW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oradnik dla szkolnych koordynatorów programu, nauczycieli/ pielęgniarek środowiska szkolnego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ateriały dla młodzieży i rodziców dotyczące zbilansowanej diety i znaczenia aktywności fizyczn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lakat piramida zdrow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" descr="logo-trzymaj formę"/>
          <p:cNvPicPr/>
          <p:nvPr/>
        </p:nvPicPr>
        <p:blipFill>
          <a:blip r:embed="rId1"/>
          <a:stretch/>
        </p:blipFill>
        <p:spPr>
          <a:xfrm>
            <a:off x="6227640" y="4797360"/>
            <a:ext cx="231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70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usiak Barbara</dc:creator>
  <dc:description/>
  <dc:language>en-US</dc:language>
  <cp:lastModifiedBy>Barbara Andrusiak</cp:lastModifiedBy>
  <dcterms:modified xsi:type="dcterms:W3CDTF">2022-11-22T06:20:26Z</dcterms:modified>
  <cp:revision>160</cp:revision>
  <dc:subject/>
  <dc:title>PowerPoint Presentation</dc:title>
</cp:coreProperties>
</file>